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A01262-2171-445C-9BB8-7E03DF32510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B75181-80A3-4927-8376-0873DBC0A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FB471EE-EBE8-498D-88E2-00E231B36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04758E6-FB66-42AF-B70C-DE848E401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361C3D6-D1A0-43D4-A9C5-8BE2568B6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BC6A25E-BBE5-4931-AA58-B6E4FB42F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0E4EB3C-2F7C-4E40-A13C-79C79601D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A7F60AA-30A9-46C7-9F33-8219958A6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BF8EE45-8DC9-4145-B107-3472CD4BF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8B89041-C8A1-4EC0-9EE1-023F780E1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52FA9C4-BD4D-4F10-925D-2426795CB78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B9A594-91B7-4CD2-8C09-E7387B593A6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609E5B-1BAE-4D0C-B2C2-FEF867EA3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C4CACF-6039-4867-BF07-E0F5A1BC5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536E09-625E-448E-9ACA-0B14E310B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8736AA-4D69-4E3C-B909-57ACC9636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0C4896-2C5A-4258-941F-6E5375D6C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886375-F1B3-4BAA-80A0-7A743E30C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B00E1D-D86E-40E7-9910-AFDD76C39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048D00-D0EA-404D-8DD7-FD362235C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DEEC72-54C1-491A-A571-E5AA43518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E30AF7-719B-448B-8BD3-34F3F577A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A39D2C-5584-437C-B6EB-3DB076569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36643D-FB08-4617-B63A-A7B520F3B7B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BC8EE4-815F-4487-8B65-058DF8540C5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0C1B036-94CF-47E0-9687-F48DA7A2402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2A55F1A-2DF3-49ED-B036-5FE2082D5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F17DCF7-19C4-415C-A9C4-572C29C5F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A0B3BE8-5D6E-48CC-B4BB-DA9A74C93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23F2F60-F5FA-44FC-A6F7-66A3705A1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1A0F33B-8F23-4CCD-AEFC-305A7A5F2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AA799A4-BE23-45AA-A22E-A4F34BEAC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9088C74-58EA-4449-9B10-B3A38204D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5681148-079C-43FE-AB44-CE1D51A4E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6F50AA-0699-4EF8-BC8B-73F4A1592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636B9BA-A20C-4DFC-BE73-1ACFA645D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861C9DE-0D8D-4ABB-94FB-9684FA45B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B46379C-7C9E-4841-B2F2-9A9CDDD41EE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3B9885-A8C8-401F-B9AF-CFA4CBEBE6D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3EC9C0-AE11-4DCB-B417-FD49ECAC5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4EAA15-6799-4AE2-A680-FB3C548E9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F7D865-489D-40FE-A08A-98B982AD9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0C83A3-8600-48AA-B9D5-012AB44DB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DE0938-11E7-4406-BCAD-629E3A071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47E040-FAD2-48CD-B31C-3E384922D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1C13AD-F25B-4A32-8815-3599A4FA6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A57B49-A0AB-4719-B458-5DEB06090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7FEBAB-E7D7-4055-B69A-A289DB5E0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9AAD21-3663-4C99-AC34-4236A3C3F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E5B3DE-3E27-4075-82E5-56D67F5F8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CB6BB1-1BBE-4031-AD1A-390EE08D7E0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02E714-009A-464C-A8CF-096448BC83C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1739C0-933B-4022-92A8-2606AFC7C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BEFCA7-7217-4CD3-93AD-BD50DA85A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5F3933-1CDC-4568-AB09-717FBAAFF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38D8F4-1A8C-4F3C-89FF-03F6CC872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097BAB-AB08-46A6-AE12-C038565BD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26C325-1017-4862-BEAE-AE6A315C1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D1CA9F-8FC4-402A-B265-CA3DFF077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7694A7-1DB7-4B4A-ADFF-8BAD0B444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3A7DC4-EE47-48EF-A3AE-D2AC10A14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F318EE-E425-4CF6-B7CC-F964BB9CF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B3297B-9BF9-4097-AD61-4DF4CBA09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7BFED3-2894-4844-BF65-514B1970CD6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B70A8C-A098-49FD-8C67-20D5B5CCB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D4C3B4-CC5C-48A6-8FEF-7A42A00D7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947D89-955C-48D5-9E48-27BD0018D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468DB4-0925-4DD4-BFB7-35A3B91CD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25454A-3079-4699-A512-75A2EEAD9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563998-7DFB-4309-BFED-2FA1239A0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AED83E-A21C-4EC7-ADA4-4CCAD4423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8BAF4D-E79C-4625-98B8-135D001BA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EEAD5F-1691-43F9-AD40-26DDEAC69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30164B-F355-421A-A686-F8581556D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123C5D-5504-4CB0-8213-41F8146F7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A2391C-6B9F-46AF-8F8C-88F29E140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45CE5E-77CB-4D78-B331-D9A2508BE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A323A8-5400-4081-BB7B-65F1CCC5A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D3D401-2857-469F-BA2D-B2F3237BA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B68066-8B56-4B38-9E85-9233AFB43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A135E7-5337-4EC3-95AC-38D7CFD78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2B9C26-BC4A-498D-BD71-843E7D0CF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1D21DC-22FE-4669-BEEE-330980D59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84171F-39E4-417B-8E9A-37ACC1C0F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4A7FEB-9AF3-4D9A-96DA-1925E5D9E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4DA07F-4301-47AA-8FF5-9A6740C23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7A920A-8D81-4610-B183-0007D545A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4C249D-019A-443B-BF02-E80F2CAC0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F7CE3B-BA24-48C8-AEEC-3083B8426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59CDD8-71B6-420E-AC7E-B8A94648F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2765F3-5431-4014-93C3-9880E3B0A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A3C899-F166-494E-B4A3-FC8C2F354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229B46-176C-4F70-849A-169BC9360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0E16DF-C475-4489-B154-761226837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0978FB-C191-4960-8D21-6154AFE51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DCCC6D-6785-40D6-9687-ACD05B1BE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2CD0B8-EE7F-4160-B257-095D20654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A449BD-1F96-4979-B4A4-EF1E412D8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77A131-0579-4F9E-BBD7-E532368A4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803309-D9BE-480C-9E24-06F1071BC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914B75-4B65-4275-AA83-8D36E1B7C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F71E42-10CD-4BC9-9454-22549671E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6EC0CA-27B2-4308-A820-705C8AE39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161A5A-718B-4E0C-A022-916E53634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98C090-68C4-4B81-A09C-94F8B4B36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8640EB-5C3A-4AE9-8E8F-6FE2B9429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95C18C-820C-44F3-A367-AFCA8B5A0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89302C-5AC3-47FD-806E-E07DE076B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324513-1A47-41B8-82E9-71A14D686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604661-5797-4881-A766-7CACAD94E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0CE5C3-6E50-42DD-AB38-4722C6A35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053E2C-BAC5-405A-A2B4-F84525AB5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7533B8-95E0-41A4-9B73-9A12F1AEE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4492D0-E4E4-40F1-BB8F-59B404401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CFB098-98CA-44D4-9057-1DC3F8813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E027C5-B1E9-4CCA-AD20-8A15EBEEB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F1744F-B6B8-47D6-BF93-E10812CE1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8A32DA-9620-40BC-8A26-41F76B649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D7EBC0-0F6B-4661-96E9-6DDC05176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19F63A-284B-492E-9A07-ABF42C20A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D6F35B-7A64-4131-89CA-84A10DD3A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BA3235-DD89-4333-8FBB-2BEEBAD4A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E153BA-9566-4722-AE85-8A70C5C00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F39955-59A7-4A00-884C-F6AE30864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FBE4FD-0825-47D2-9B8D-463D47B29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CCA262-6808-476A-A3E8-04E6F36FE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B2B8AE2-9BBF-4685-8A26-3FA9DEF08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AC64FA-1940-442C-8FAC-DD307001A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59D000-2661-400A-845B-F3DCE6979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70EE54-66B6-4989-BB03-D648F7FF9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1F47B44-778D-4E3A-B25E-7F00779EF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8C5B5C1-6D38-49CC-BF3F-2D219281A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8817A49-1382-45A7-97CA-E39C90A93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382C5FD-7BA5-4CBE-A96F-FCDFB1107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F2006D-F4B5-48BD-88DA-4137579E1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0A17FC2-F1B5-48DC-9DD3-391426A43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3D760D3-2FD9-4158-ACE5-547EE411E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D3A2C22-2845-4F08-B69F-33730E07E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797517A-198A-46B6-9241-EF64CE2DB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22F645A-70B1-4DBF-84C6-9A04FD488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912B993-6FDA-4B97-8684-E3C1A6D7D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880AED9-C067-48D9-9681-00CF4ECA8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D8C086E-CE05-4E93-8233-1B86E02AD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14638F6-117E-4B10-BCB2-812358CB6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4CC320B-6A7E-4E40-A508-E11FA6985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317BAA-F222-476A-BC65-E93BA5949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8A4768C-9571-4146-AC0B-1042DB199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8AAE537-1449-43E7-B7A7-0D6B76F79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5D23D5C-2F2C-42EC-9706-4024B319C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E1DB25C-AFA8-4973-8C2C-7C78E9AD5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0CF4477-12C6-4E8E-A717-11C7F1865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F66803B-DEF9-4713-A888-D03B5C57C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2BD6A58-A4D4-45CA-9AAB-381F07252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B0C43CF-C2EA-47C8-9251-F5D707F40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F545E6A-35FB-4C5A-98E6-9E8A4040A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F09B5E6-4249-4ADE-9438-AF21C19F3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3237E1-21A5-4E3B-9B54-527012CF9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764D1DC-54A7-4BAF-85B1-041557441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65AD221-1429-47D2-A34E-566583403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75B8DAE-7E6D-4D9B-91DD-7525E0C74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FF631CE-6442-4391-A410-1A7FACC85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617E355-BD61-4E96-BDE2-5197D7770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E3E7660-374C-4E65-B7DB-B89737DA9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30C34C8-24DD-4821-A541-8112FB715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B307A55-9C93-48C4-ADB1-F7779B2C7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FAA82B4-8E4B-48EE-A842-6C19B0387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05EF436-370B-4392-A0FC-019D4AA8E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55C7208-2D55-43F6-8586-ECB77C4828E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9EA1F0D-23E3-44B9-B92E-8BFB69896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F825CE5-7C08-490D-810C-438CB944A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1FB29E6-BFD5-4718-8603-A722049C7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68A8273-FB9C-4938-9C12-669EE8857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2607946-5BEC-4121-8342-C98D1F297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42930AD-E0CD-46F3-97CC-344C57B18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2B37CC3-3A36-4B31-ABEC-9AF2EA717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E31E59F-4C03-4F88-A1A0-1A1CB1BAF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3EFFBC7-5BF1-4039-8FE2-956020FDF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21BB0D2-8907-439E-A276-20C76F9FA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2A53536-69DC-42F5-8B67-0D8A0BFBB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966BAB1-1D63-4838-AAA5-A33AC387D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CDE6345-37FF-44EB-A2E3-0862E8749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A168128-421E-4F2F-A187-4ECD7AA24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56268F1-A90C-47BC-A81F-02843A0B4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71A74A3-21DE-4455-9AE4-A19368AE6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5E72A6D-3758-42B6-8D56-6D0752232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EC89746-6703-4077-BCD8-422F336B2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3C093A0-9400-4C07-8180-13CD69178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3B2B278-4C52-45DD-892F-A5580AEE0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7D46487-95C9-4D96-8A80-AB59FFE4F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6E0B3E7-FEDC-4938-94C6-6D135DD29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BDBC58E-3B62-40DC-BD5B-F62B95AE7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123323B-A7A9-4BF2-AE75-7667D60E7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B77CB25-898A-48C4-B67D-B6D884A03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9CB8C4B-577D-44C6-884B-F6B87BAF5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303EE0A-D09D-44C4-ADC5-3EE9C83E3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BDB3E8B-F139-4222-8121-F71866EE8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6EB187F-AE61-4E6C-AF70-C559D05AE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6FC96D2-3FB4-45D8-B5E7-960211017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0CDFDDF-21CF-425E-80C5-DF261A2F0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11928A2-7D36-44A1-841F-CB8429E28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057D080-33FE-423B-822E-288744D3A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5AEB7AD-6C3F-47EC-B5D2-4B1DB90C6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389A908-D192-49E8-A100-8ACACD27C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A0D7F61-7CE2-4CDE-A91A-7FAC32D1E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22183E0-C17D-47A9-AB04-83599CB2C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471CB8D-0D70-4ECA-826D-92D72AF6F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47D00DE-D2DB-41C6-A577-EA83E4141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9FF1ED8-5F8D-4013-AEEB-9D4EE65E3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608EE30-B1EF-4A77-87A7-639FFD781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1A885DC-E024-4371-9EAB-DFA329CE0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99A969C-9F13-4E99-8D43-96A7D8F21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50C850-BA0D-4C47-AC46-94C3951C7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F1E8905-8103-4649-8C3A-D625164C3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386EDB5-38B5-4335-94B0-B8F88721C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497BD88-7026-44CF-9659-A4A6D77DC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F50E70C-CDDD-459D-8429-2838C7FC7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1718C58-7D39-49FF-9C4B-273055073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F3D575F-7411-4889-B9BE-9D6E06921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0550617-6700-4ABA-9B2F-EB52F668A8C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3F2A21-DAFD-403D-A751-AFF8971B5FD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B6C001-4CB7-4429-983F-F3766D60F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655BD5-8236-4034-8B69-DE4A1A068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61DBA9-5853-456F-BFAA-900B81E9E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91C901-5F31-4D7A-A892-C6F0CF3D0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CEB5A3-7A8F-48C7-8565-1B7FAB239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3CE4C7-35B7-425F-8DCA-56DD662E5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CD42CD-3A74-4F2B-80D0-D38DFEE94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AB3E01-81EE-44E0-82FB-470295C04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F6B3EC-B8E1-49ED-97C4-B1F4A21C5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8296DF-0D1A-4023-8CBB-BF63595D2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B4DD53-BA4C-452E-A5F2-5A4A27153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1D77A1-BA09-438A-8AEF-A1AE2E43AC9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34469CF-1CF9-4A83-B358-AE35EE15152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EA4067-5EC1-46FE-9DB5-3265F448A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C9E294F-43B9-414B-888D-CFC469DC8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A8D7C0F-609B-4F7D-985C-583F5D759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FFBCABE-C314-4B66-882E-4713AEE9C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252B2B7-58D7-4EE8-9EB8-99BB9BC09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2CBF77B-742E-44F2-ACA8-45A5A7503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BCAFA96-C1CC-435D-BF1E-B8075E0B3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2F16952-0D35-4A26-922F-2674B4ED1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D801BC9-02DD-4850-936B-A1C00CB9C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1D0CC26-6A3A-4032-B1C2-292023E13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BBB0437-8A38-4C49-B007-48F49E6E6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DC733D-E6E0-4529-832A-B2A30E02D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E1F337D-DA61-4FA9-85FD-1A51B1C7801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D506123-AEE9-495C-8FF5-D8FF694A4F7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2504024-5B8C-4A22-9294-35225BC64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A888C7F-F22E-4540-A83B-7F6A2F2AA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90DDC24-D495-493D-B920-0381503EC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F45B0FD-81C6-4278-A3DB-31BAB9255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16568FA-365A-4BBA-B82F-C6DFCEC74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4A66D00-B4C3-4959-9166-931916D8B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85E37EC-8B76-44C8-8255-08BE8EDE7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FFC64E6-1C1F-4285-8C37-DAE8E8269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69BC18-50FD-4A9B-880E-1FC076522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A72A43F-221D-46C8-854C-7EE1ECA0E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77A5B25-0A16-483F-B533-97162BB4E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0554536-0CB8-444C-BC4C-4D1481EDD50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66318D-78E4-4A1F-9E2E-1D39B127CB9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8B9506-1D04-42C6-8886-0B54DA3E0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47235B-E66C-44DA-8FDC-C1679CD1F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93189E-84DB-45F4-8991-27E55FDAB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C6CA1B-9DC0-4B8D-9B4A-25B37CB6E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46A714-E0B3-4E8C-8A7A-1F8EFC3D0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0D951C-2B78-4939-A999-8CC7D50A6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12E1BC-F10C-42E2-8CC5-61EA30191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D6662F-F9E1-420E-BB5F-119389F5B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DD95AD-2E64-43CA-A20D-76A3EEDED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AF026D-CFD6-45B8-8EF4-BC11C5D70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12F1DE-CBD1-438B-B61A-CB083BDBE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109DCB-2D68-457F-9799-9565FD45A33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FA6F769-D90E-4132-829F-08E7457BB13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1CCAE0C-208B-4C08-858B-2BF1D37D5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BE60A86-452F-4346-9C8A-39BF44D26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B6B781E-24F9-40A5-A891-63AF3015D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3CFF2D7-3A9C-44AE-8653-6CF4AA738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8C69CF-0795-4D4D-B1A1-790D39CA2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07C867B-7DD3-4425-A8E9-0CDCA4158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141FBB-CFCA-4832-BA2B-0F1B7F11B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92C25B3-5F50-4049-B7BD-CCE8DA457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A8C3AE8-1265-49E2-8D4B-949036B8A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41AB85C-BF91-4520-94F1-243B01312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148D7FE-B48D-4705-8AD5-219EBFB4D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A29D3D4-5704-425C-BB95-03536D1C4D6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CBE3A60-7264-4495-9B88-82286A72E91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DB609C0-1957-4EFF-98FB-C8AA6A2C6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2F39418-48BE-4B02-948D-DFC4AF271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80402-453F-41F8-829F-8F031A546B0B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E9420-9146-4C7F-A9B9-520548671E2F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71275-26D6-40DC-ABAD-E87350280E29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2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sldNum" idx="2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BC6DF-32BE-43D2-BBE3-E184E576C50B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2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C463E-9447-497F-B762-B96F37F767A5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6D82B-0996-473B-A265-26A3B7606E52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C79DD-BC8F-4071-A279-499A633DA727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31C42-2ED7-4B38-B52B-4FE2D1F850D9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 type="ftr" idx="3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669D4-7E49-44AA-BCBB-20DDDF85DA86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 type="ftr" idx="4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D8BF3-36B1-4FC5-BA8F-12DF3EDF34D0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4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F4040-4CAB-498B-92D8-AC3E26F4ADC0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48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49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049F7-A1FD-460F-A74C-4C6241D03D26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 type="ftr" idx="4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39B2B-4249-4313-957B-85211C3EEEFF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40AA8-541B-4C1D-BAD0-E372BD01C1DA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 type="ftr" idx="5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8BA5A-4707-479B-838F-3235F5D060C2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 type="ftr" idx="5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6104B-DCD5-47F5-B4CE-258F5677EFF8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 type="ftr" idx="5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1C469-C18D-44D0-AF46-4149D79D04BA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B9FD3-FFB0-454C-8F0F-E5F45482BF59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4BE0B-8F52-4EC8-BB71-74F4F9327370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F8E66-A63E-457D-B9D6-C47D17851B36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sldNum" idx="1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5871D-C27A-41FD-93D3-0E79A65CC8CE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77C8A-A995-46A2-93A0-C01DADD8BA04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E9B67-CD72-41DA-8B6C-61465FA142E7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1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sldNum" idx="1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EBFD6-1643-4F5B-A9E0-40406A59535F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TextBox 2"/>
          <p:cNvSpPr/>
          <p:nvPr/>
        </p:nvSpPr>
        <p:spPr>
          <a:xfrm>
            <a:off x="5286240" y="-3240"/>
            <a:ext cx="3859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二年级数学上册（</a:t>
            </a:r>
            <a:r>
              <a:rPr b="1" lang="en-US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RJ</a:t>
            </a: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）    教学课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Oval 5"/>
          <p:cNvSpPr/>
          <p:nvPr/>
        </p:nvSpPr>
        <p:spPr>
          <a:xfrm>
            <a:off x="3251160" y="2841480"/>
            <a:ext cx="557280" cy="46224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Rectangle 6"/>
          <p:cNvSpPr/>
          <p:nvPr/>
        </p:nvSpPr>
        <p:spPr>
          <a:xfrm>
            <a:off x="422280" y="2768760"/>
            <a:ext cx="84438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33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</a:t>
            </a:r>
            <a:r>
              <a:rPr b="0" lang="en-US" sz="33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3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练 习 课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9" name=""/>
          <p:cNvGrpSpPr/>
          <p:nvPr/>
        </p:nvGrpSpPr>
        <p:grpSpPr>
          <a:xfrm>
            <a:off x="2306160" y="2400480"/>
            <a:ext cx="6490080" cy="56880"/>
            <a:chOff x="2306160" y="2400480"/>
            <a:chExt cx="6490080" cy="56880"/>
          </a:xfrm>
        </p:grpSpPr>
        <p:sp>
          <p:nvSpPr>
            <p:cNvPr id="990" name="Line 10"/>
            <p:cNvSpPr/>
            <p:nvPr/>
          </p:nvSpPr>
          <p:spPr>
            <a:xfrm flipV="1">
              <a:off x="2306520" y="2400480"/>
              <a:ext cx="6489720" cy="56880"/>
            </a:xfrm>
            <a:prstGeom prst="line">
              <a:avLst/>
            </a:prstGeom>
            <a:ln w="57240">
              <a:solidFill>
                <a:srgbClr val="13c4c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 txBox="1"/>
            <p:nvPr/>
          </p:nvSpPr>
          <p:spPr>
            <a:xfrm rot="10800000">
              <a:off x="2306160" y="2400120"/>
              <a:ext cx="6489720" cy="56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2" name="Rectangle 7"/>
          <p:cNvSpPr/>
          <p:nvPr/>
        </p:nvSpPr>
        <p:spPr>
          <a:xfrm>
            <a:off x="0" y="1757520"/>
            <a:ext cx="2440080" cy="71424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Oval 8"/>
          <p:cNvSpPr/>
          <p:nvPr/>
        </p:nvSpPr>
        <p:spPr>
          <a:xfrm>
            <a:off x="2317680" y="1746360"/>
            <a:ext cx="38124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Rectangle 11"/>
          <p:cNvSpPr/>
          <p:nvPr/>
        </p:nvSpPr>
        <p:spPr>
          <a:xfrm>
            <a:off x="2330280" y="1859040"/>
            <a:ext cx="357480" cy="59508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Oval 8"/>
          <p:cNvSpPr/>
          <p:nvPr/>
        </p:nvSpPr>
        <p:spPr>
          <a:xfrm>
            <a:off x="2317680" y="1746360"/>
            <a:ext cx="38268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Rectangle 11"/>
          <p:cNvSpPr/>
          <p:nvPr/>
        </p:nvSpPr>
        <p:spPr>
          <a:xfrm>
            <a:off x="2330280" y="1859040"/>
            <a:ext cx="357480" cy="59508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Rectangle 9"/>
          <p:cNvSpPr/>
          <p:nvPr/>
        </p:nvSpPr>
        <p:spPr>
          <a:xfrm>
            <a:off x="-882720" y="1744560"/>
            <a:ext cx="910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 </a:t>
            </a: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4 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元       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表 内 乘 法（一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文本框 1"/>
          <p:cNvSpPr/>
          <p:nvPr/>
        </p:nvSpPr>
        <p:spPr>
          <a:xfrm>
            <a:off x="600120" y="644400"/>
            <a:ext cx="192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算一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文本框 2"/>
          <p:cNvSpPr/>
          <p:nvPr/>
        </p:nvSpPr>
        <p:spPr>
          <a:xfrm>
            <a:off x="406440" y="1406520"/>
            <a:ext cx="831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×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5=        4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×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=        1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×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=        4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×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5+7=        5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×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- 2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×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=        2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×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5=        3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×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=        5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×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5- 4=        3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×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+2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文本框 3"/>
          <p:cNvSpPr/>
          <p:nvPr/>
        </p:nvSpPr>
        <p:spPr>
          <a:xfrm>
            <a:off x="1374840" y="1427040"/>
            <a:ext cx="84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文本框 4"/>
          <p:cNvSpPr/>
          <p:nvPr/>
        </p:nvSpPr>
        <p:spPr>
          <a:xfrm>
            <a:off x="2889360" y="1427040"/>
            <a:ext cx="84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文本框 5"/>
          <p:cNvSpPr/>
          <p:nvPr/>
        </p:nvSpPr>
        <p:spPr>
          <a:xfrm>
            <a:off x="4424400" y="1427040"/>
            <a:ext cx="84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文本框 6"/>
          <p:cNvSpPr/>
          <p:nvPr/>
        </p:nvSpPr>
        <p:spPr>
          <a:xfrm>
            <a:off x="6323040" y="1427040"/>
            <a:ext cx="84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文本框 7"/>
          <p:cNvSpPr/>
          <p:nvPr/>
        </p:nvSpPr>
        <p:spPr>
          <a:xfrm>
            <a:off x="8229600" y="1427040"/>
            <a:ext cx="84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文本框 13"/>
          <p:cNvSpPr/>
          <p:nvPr/>
        </p:nvSpPr>
        <p:spPr>
          <a:xfrm>
            <a:off x="1382760" y="2271600"/>
            <a:ext cx="84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文本框 17"/>
          <p:cNvSpPr/>
          <p:nvPr/>
        </p:nvSpPr>
        <p:spPr>
          <a:xfrm>
            <a:off x="2898720" y="2271600"/>
            <a:ext cx="84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文本框 19"/>
          <p:cNvSpPr/>
          <p:nvPr/>
        </p:nvSpPr>
        <p:spPr>
          <a:xfrm>
            <a:off x="4432320" y="2271600"/>
            <a:ext cx="84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文本框 20"/>
          <p:cNvSpPr/>
          <p:nvPr/>
        </p:nvSpPr>
        <p:spPr>
          <a:xfrm>
            <a:off x="6330960" y="2271600"/>
            <a:ext cx="84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文本框 22"/>
          <p:cNvSpPr/>
          <p:nvPr/>
        </p:nvSpPr>
        <p:spPr>
          <a:xfrm>
            <a:off x="8238960" y="2271600"/>
            <a:ext cx="84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0" name="组合 17"/>
          <p:cNvGrpSpPr/>
          <p:nvPr/>
        </p:nvGrpSpPr>
        <p:grpSpPr>
          <a:xfrm>
            <a:off x="434880" y="838080"/>
            <a:ext cx="8699760" cy="2232000"/>
            <a:chOff x="434880" y="838080"/>
            <a:chExt cx="8699760" cy="2232000"/>
          </a:xfrm>
        </p:grpSpPr>
        <p:sp>
          <p:nvSpPr>
            <p:cNvPr id="1011" name="文本框 4"/>
            <p:cNvSpPr/>
            <p:nvPr/>
          </p:nvSpPr>
          <p:spPr>
            <a:xfrm>
              <a:off x="434880" y="838080"/>
              <a:ext cx="8699760" cy="22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在       里填上</a:t>
              </a: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“</a:t>
              </a:r>
              <a:r>
                <a:rPr b="0" lang="zh-CN" sz="28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＞</a:t>
              </a: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”“</a:t>
              </a:r>
              <a:r>
                <a:rPr b="0" lang="zh-CN" sz="28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＜</a:t>
              </a: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”</a:t>
              </a:r>
              <a:r>
                <a:rPr b="0" lang="zh-CN" sz="28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或</a:t>
              </a: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“</a:t>
              </a: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=”</a:t>
              </a:r>
              <a:r>
                <a:rPr b="0" lang="zh-CN" sz="28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×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   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2+2  </a:t>
              </a: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  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×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2      3+2         2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×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1      2+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×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3      3+3       1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×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3      1+3        5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×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5      5+5</a:t>
              </a: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    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椭圆 5"/>
            <p:cNvSpPr/>
            <p:nvPr/>
          </p:nvSpPr>
          <p:spPr>
            <a:xfrm>
              <a:off x="929520" y="843840"/>
              <a:ext cx="504000" cy="504000"/>
            </a:xfrm>
            <a:prstGeom prst="ellipse">
              <a:avLst/>
            </a:prstGeom>
            <a:noFill/>
            <a:ln w="1260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椭圆 6"/>
            <p:cNvSpPr/>
            <p:nvPr/>
          </p:nvSpPr>
          <p:spPr>
            <a:xfrm>
              <a:off x="1296360" y="1696680"/>
              <a:ext cx="504000" cy="504000"/>
            </a:xfrm>
            <a:prstGeom prst="ellipse">
              <a:avLst/>
            </a:prstGeom>
            <a:noFill/>
            <a:ln w="1260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椭圆 7"/>
            <p:cNvSpPr/>
            <p:nvPr/>
          </p:nvSpPr>
          <p:spPr>
            <a:xfrm>
              <a:off x="3918960" y="1696680"/>
              <a:ext cx="504000" cy="504000"/>
            </a:xfrm>
            <a:prstGeom prst="ellipse">
              <a:avLst/>
            </a:prstGeom>
            <a:noFill/>
            <a:ln w="1260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椭圆 13"/>
            <p:cNvSpPr/>
            <p:nvPr/>
          </p:nvSpPr>
          <p:spPr>
            <a:xfrm>
              <a:off x="6701040" y="1721160"/>
              <a:ext cx="504000" cy="504000"/>
            </a:xfrm>
            <a:prstGeom prst="ellipse">
              <a:avLst/>
            </a:prstGeom>
            <a:noFill/>
            <a:ln w="1260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椭圆 19"/>
            <p:cNvSpPr/>
            <p:nvPr/>
          </p:nvSpPr>
          <p:spPr>
            <a:xfrm>
              <a:off x="6725880" y="2543760"/>
              <a:ext cx="504000" cy="504000"/>
            </a:xfrm>
            <a:prstGeom prst="ellipse">
              <a:avLst/>
            </a:prstGeom>
            <a:noFill/>
            <a:ln w="1260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椭圆 20"/>
            <p:cNvSpPr/>
            <p:nvPr/>
          </p:nvSpPr>
          <p:spPr>
            <a:xfrm>
              <a:off x="3932640" y="2557800"/>
              <a:ext cx="504000" cy="504000"/>
            </a:xfrm>
            <a:prstGeom prst="ellipse">
              <a:avLst/>
            </a:prstGeom>
            <a:noFill/>
            <a:ln w="1260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椭圆 22"/>
            <p:cNvSpPr/>
            <p:nvPr/>
          </p:nvSpPr>
          <p:spPr>
            <a:xfrm>
              <a:off x="1302120" y="2566080"/>
              <a:ext cx="504000" cy="504000"/>
            </a:xfrm>
            <a:prstGeom prst="ellipse">
              <a:avLst/>
            </a:prstGeom>
            <a:noFill/>
            <a:ln w="1260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9" name="文本框 23"/>
          <p:cNvSpPr/>
          <p:nvPr/>
        </p:nvSpPr>
        <p:spPr>
          <a:xfrm>
            <a:off x="1362240" y="1665360"/>
            <a:ext cx="45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文本框 24"/>
          <p:cNvSpPr/>
          <p:nvPr/>
        </p:nvSpPr>
        <p:spPr>
          <a:xfrm>
            <a:off x="3889440" y="1701720"/>
            <a:ext cx="45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文本框 25"/>
          <p:cNvSpPr/>
          <p:nvPr/>
        </p:nvSpPr>
        <p:spPr>
          <a:xfrm>
            <a:off x="6718320" y="1709640"/>
            <a:ext cx="45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文本框 26"/>
          <p:cNvSpPr/>
          <p:nvPr/>
        </p:nvSpPr>
        <p:spPr>
          <a:xfrm>
            <a:off x="1327320" y="2570040"/>
            <a:ext cx="45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文本框 29"/>
          <p:cNvSpPr/>
          <p:nvPr/>
        </p:nvSpPr>
        <p:spPr>
          <a:xfrm>
            <a:off x="6743880" y="2538360"/>
            <a:ext cx="45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文本框 1"/>
          <p:cNvSpPr/>
          <p:nvPr/>
        </p:nvSpPr>
        <p:spPr>
          <a:xfrm>
            <a:off x="3925800" y="2549520"/>
            <a:ext cx="45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5" name="Picture 2" descr="D:\我的文档-桌面-收藏夹\桌面\奥运五环.jpg"/>
          <p:cNvPicPr/>
          <p:nvPr/>
        </p:nvPicPr>
        <p:blipFill>
          <a:blip r:embed="rId1"/>
          <a:srcRect l="6776" t="8051" r="10680" b="6698"/>
          <a:stretch/>
        </p:blipFill>
        <p:spPr>
          <a:xfrm>
            <a:off x="1436760" y="1855800"/>
            <a:ext cx="1324080" cy="907920"/>
          </a:xfrm>
          <a:prstGeom prst="rect">
            <a:avLst/>
          </a:prstGeom>
          <a:ln w="0">
            <a:noFill/>
          </a:ln>
        </p:spPr>
      </p:pic>
      <p:sp>
        <p:nvSpPr>
          <p:cNvPr id="1026" name="TextBox 33"/>
          <p:cNvSpPr/>
          <p:nvPr/>
        </p:nvSpPr>
        <p:spPr>
          <a:xfrm>
            <a:off x="357120" y="843120"/>
            <a:ext cx="81406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一面奥运五环旗上有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个圆环，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面奥运五环旗上一共有多少个圆环？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Rectangle 51"/>
          <p:cNvSpPr/>
          <p:nvPr/>
        </p:nvSpPr>
        <p:spPr>
          <a:xfrm>
            <a:off x="3141720" y="322596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3×5=15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（个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8" name="Picture 2" descr="D:\我的文档-桌面-收藏夹\桌面\奥运五环.jpg"/>
          <p:cNvPicPr/>
          <p:nvPr/>
        </p:nvPicPr>
        <p:blipFill>
          <a:blip r:embed="rId2"/>
          <a:srcRect l="6776" t="8051" r="10680" b="6698"/>
          <a:stretch/>
        </p:blipFill>
        <p:spPr>
          <a:xfrm>
            <a:off x="3718080" y="1855800"/>
            <a:ext cx="1323720" cy="90792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2" descr="D:\我的文档-桌面-收藏夹\桌面\奥运五环.jpg"/>
          <p:cNvPicPr/>
          <p:nvPr/>
        </p:nvPicPr>
        <p:blipFill>
          <a:blip r:embed="rId3"/>
          <a:srcRect l="6776" t="8051" r="10680" b="6698"/>
          <a:stretch/>
        </p:blipFill>
        <p:spPr>
          <a:xfrm>
            <a:off x="5997600" y="1855800"/>
            <a:ext cx="132408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0" name="Picture 2" descr="D:\我的文档-桌面-收藏夹\桌面\1.png"/>
          <p:cNvPicPr/>
          <p:nvPr/>
        </p:nvPicPr>
        <p:blipFill>
          <a:blip r:embed="rId1"/>
          <a:srcRect l="4883" t="49814" r="37302" b="864"/>
          <a:stretch/>
        </p:blipFill>
        <p:spPr>
          <a:xfrm>
            <a:off x="1685880" y="1708200"/>
            <a:ext cx="4230720" cy="1857240"/>
          </a:xfrm>
          <a:prstGeom prst="rect">
            <a:avLst/>
          </a:prstGeom>
          <a:ln w="0">
            <a:noFill/>
          </a:ln>
        </p:spPr>
      </p:pic>
      <p:sp>
        <p:nvSpPr>
          <p:cNvPr id="1031" name="TextBox 15"/>
          <p:cNvSpPr/>
          <p:nvPr/>
        </p:nvSpPr>
        <p:spPr>
          <a:xfrm>
            <a:off x="642960" y="3565440"/>
            <a:ext cx="68580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乘法算式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（     ）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×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（     ）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（     ）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TextBox 16"/>
          <p:cNvSpPr/>
          <p:nvPr/>
        </p:nvSpPr>
        <p:spPr>
          <a:xfrm>
            <a:off x="642960" y="4308480"/>
            <a:ext cx="68580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乘法算式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（     ）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×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（     ）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（     ）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Rectangle 51"/>
          <p:cNvSpPr/>
          <p:nvPr/>
        </p:nvSpPr>
        <p:spPr>
          <a:xfrm>
            <a:off x="2711520" y="3730680"/>
            <a:ext cx="4284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Rectangle 51"/>
          <p:cNvSpPr/>
          <p:nvPr/>
        </p:nvSpPr>
        <p:spPr>
          <a:xfrm>
            <a:off x="4357800" y="3730680"/>
            <a:ext cx="4284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Rectangle 51"/>
          <p:cNvSpPr/>
          <p:nvPr/>
        </p:nvSpPr>
        <p:spPr>
          <a:xfrm>
            <a:off x="5786280" y="3730680"/>
            <a:ext cx="642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2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Rectangle 51"/>
          <p:cNvSpPr/>
          <p:nvPr/>
        </p:nvSpPr>
        <p:spPr>
          <a:xfrm>
            <a:off x="2643120" y="4475160"/>
            <a:ext cx="4287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Rectangle 51"/>
          <p:cNvSpPr/>
          <p:nvPr/>
        </p:nvSpPr>
        <p:spPr>
          <a:xfrm>
            <a:off x="4357800" y="4475160"/>
            <a:ext cx="4284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Rectangle 51"/>
          <p:cNvSpPr/>
          <p:nvPr/>
        </p:nvSpPr>
        <p:spPr>
          <a:xfrm>
            <a:off x="5786280" y="4473720"/>
            <a:ext cx="642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2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文本框 3"/>
          <p:cNvSpPr/>
          <p:nvPr/>
        </p:nvSpPr>
        <p:spPr>
          <a:xfrm>
            <a:off x="696960" y="965160"/>
            <a:ext cx="48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看图列出乘法算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06T01:35:00Z</dcterms:created>
  <dc:creator/>
  <dc:description/>
  <dc:language>en-US</dc:language>
  <cp:lastModifiedBy>万润仪器贸易公司</cp:lastModifiedBy>
  <dcterms:modified xsi:type="dcterms:W3CDTF">2020-08-21T00:34:21Z</dcterms:modified>
  <cp:revision>1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